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71F1-16BB-4688-8032-5D1AA07FE02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0335-9879-4B97-96C9-45A8E748C8C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B015-FD4F-4E0F-A23C-7CE211909F3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Skup pravila kojima se uređuje izgradnja građevinskih projekata, odnosn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r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j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kvir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utar kojih se moraju po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i 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nici u izgradnji investicionog objekt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Zakonska regulativa čija je primjena obavez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Autonomna regulativa koja se primjenjuje voljom učesnika u izgradnj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Naki tehnički propisi i standardi spadaju u domen zakonske regulative, jer je npr. rješenjem utvrđena obavezna primjena standarda, dok su drugi u domenu autonomne regulative, odnosno ostavlja se sloboda učesnicima da odgovarajući standard primjenjuju ili 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5F55-FBF8-441B-A0FA-005B52F0C35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727280" y="685800"/>
            <a:ext cx="3251160" cy="2438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3200040"/>
            <a:ext cx="548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vdje nas prvenstveno interesuju zakoni, podzakonska i druga akta kojima se reguliše djelatnost građevinarstva i onih privrednih i vanprivrednih djelatnosti koje su dijelom povezane sa građevinskom djelatnoš}u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Zakon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posebno interesantni sa aspekta građevinarstva, s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akon o 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planiranju prostora i izgradnji objekat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zakoni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z oblast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štite životne sredine, javnih nabavki, obligacionih odnosa, ali i drugi: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tevima, zaštiti spomenika kulture, koncesiji, eksproprijaciji, vodama, zaštiti od elementarnih nepogoda, zaštiti od požara,nacionalnim parkovima, zaštiti prirode i dr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Uredb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u podzakonska akta koje se donose na osnovu pojednih zakonskih propis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redbama se regulišu posebna pitanja kao što su način čuvanja i koriš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ja pojedine dokumentacije, zaštita od buke, klasifikacija i kategorizacija voda, visine pojedinih naknada zbog zagađivanja životne sredine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ravilnic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u podzakonska akta ili akta pojedinih institucija koje su ovlaš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e da regulišu pojedina pitanja iz raznih oblasti života i rad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vilnici tretiraju sva značajna pitanja za projektovanje, izgradnju i održavanje objekata, a posebno: geomehaniku; razne građevinske materijale; razne poluproizvode od betona, čelika i drugih materijala; konstrukcije: građevinske, arhitektonske, prethodno napregnute, spregnute, betonske, čelične, mostovske i dr.; razne mašine za izvršenje radova; način provjere stabilnosti konstrukcija; ispitivanje konstrukcija; razna optere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ja; načine proračuna konstrukcija; preglede i ispitivanja; građenje u seizmičkim područjima; skele; temeljenje objekta; projektovanje puteva; saobr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jnu signalizaciju; opremu na putevima; razna injektiranja; značajna pitanja o vodama; tolerancije; injektiranja; zaštitu od požara; zaštitu od eksplozije; crteže u projektovanju, mjerenja u građevinarstvu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načajno je navesti pravilnike o sadržini i načinu vršenja 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revizije idejnih i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avnih projekata; sadržini i načinu vođenja građevinskog dnevnika, građevinske knjige i knjige inspekcije; sadržini i načinu vršenja nadzora u toku projektovanja i građenja objekata; sadržini i načinu osmatranja tla i objekata u toku građenja i upotrebe; sadržini i načinu vršenja tehničkog pregleda objekta i izdavanja upotrebne dozvole; postupku i načinu izdavanja licenci, programu i načinu polaganja stručnog ispita i sticanju 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licenc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za projektovanje i rukovođenje građenjem; načinu izrade i sadržini tehničke dokumentacije; izradi i održavanju katastra vodova i podzemnih objekata; mjerama zaštite od elementarnih nepogoda; sadržini tehničke dokumentacije za izdavanje vodoprivredne saglasnosti i vodoprivredne dozvole; tehničkom pregledu javnog puta; posebnim mjerama zaštite od požara koje mora da sadrži tehnička dokumentacija za određene investicione objekte; opasnim materijama koje se ne smiju unositi u vode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Uputstv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zdaju organi kojima se bliže regulišu određena pitanja koja se tiču građevinarstv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Rješenjim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 obično regulišu odgovaraj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pitanja iz oblasti utvrđivanja pojedinih standard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Odlu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donosi skupština ili nadležni organi kojima se regulišu kategorizacije puteva, usvajanje izmjena i dopuna prostornih planova, određivanje pojedinih naknada (pl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ja)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Naredb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ose ovlaš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i organi i organizacije kojima se uređuju pojedina pitanja kao što su atestiranje pojedinih materijala, poluproizvoda i sl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akonski propisi i sva podzakonska akta objavljuju se u odgovaraj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 službenom listu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88FD-C6B3-4F83-81E5-4152F2BE163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ed zakonskih propisa i podzakonskih akata aktivnosti građevinarstva odvijaju se u skladu sa odgovaraju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 tehničkim propisima, standardima i normativima. Ovim aktima regulišu se: procedure, odgovaraj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valitet, način kontrole, dokazi kvaliteta i ostala značajna pitanj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 značaja je pomenuti Uzanse o građenju i opšte uslove međunarodnog udruženja konsultanata FIDIC, kojim se na određen način regulišu odnosi između učesnika u izgradnji objeka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z sve ovo treba napomenuti da lokalni organi uprave i organizacije od posebnog društvenog interesa i javna preduz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onose odluke, uputstva, naredbe i uslove kojih se učesnici u realizaciji investicionih Projekata moraju pridrž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F1DC-0FB9-4854-8AEE-CFB9BBDD351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dručje izgradnje investicionih objekata je vrlo kompleksno i utiče skoro na sva područja ljudske djelatnosti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roz izgradnju objekata manifestuju se mnogi javni, društveni, lični i svi drugi interes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Zbog toga, zakonska regulativa i iz drugih područja utiče na izgradnju objekata. To se posebno odnosi na zakonsku regulativu kojom se reguliše prostorno planiranje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i uređenje prostora (te je stoga najnovijim zakonskim rješenjem objedinjena izgradnja objekata i uređenje prostor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nergetika, zaštita spomenika kulture, zaštita životne sredine, saobra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j, imovinsko pravni odnosi i d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bog složenosti ove privredne oblasti veliki je broj zakonskih i ostalih propisa koji uređuje izgradnju objekata. Pored toga građevinarstvo značajno utiče i na mnoge druge privredne i vanprivredne oblasti i djelatnosti, pa se i odnosi sa njima moraju regulisat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bog svega rečenog, a u cilju kvalitetnog, blagovremenog i ekonomičnog izvršavanja zadataka učesnici u realizaciji investicionih Projekata moraju dobro poznavati i stalno pratiti i proučavati zakonske i tehničke propise, podzakonska akta, doma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i međunarodne standarde i normat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vdje se misli na propise koji se odnose direktno na oblast građevinarstva i na opšte propise kojih se učesnici u realizaciji investicionog Projekta moraju pridržavati (finansijsko poslovanje, pravni poslovi, poslovanje sa inostranstvom, carinski propisi, radni odnosi, zaštita životne sredine, komunalni problemi, privredno poslovanje i dr.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bno treba ukazati na potrebu poznavanja propisa, standarda, normativa i običajnih prava u slučajevima realizacije investicionih Projekata u inostranstvu. Od velikog značaja je proučiti propise kojim su regulisani društveni, politički i ekonomski sisitem zemlje; način realizacije investicionih Projekata; rad stranih preduze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; platni promet, izvoz, uvoz, carina i sl.; porezi, doprinosi, takse i sl.; tehnički propisi, normativi i standardi i druga značajna pitanj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286D-FCCF-4E96-B4E3-551DEAC9162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71C59-7B06-4A97-96AA-B2BA28F7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F3E02-CD8E-471C-84B0-95619466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3BD16-E63A-4816-A5C9-0AB9C84A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43BFD-EB21-47A0-8665-C7E56819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689D-98E8-4E7E-A550-549CC97B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8B6F-C0B8-4A38-BB69-6B541B02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4D69-25A6-4A35-AC9F-B4680862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06AD-E2AD-406E-B5FE-837B58CD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65E0-4C9B-4475-AC46-367B43B5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A5BB-4935-413A-AF46-97EF7239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EC11-7C1A-456F-A20B-6BC2E746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BE833-3D31-4B8B-916F-DDE6D4EB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A69F-E770-48E0-9273-6B48E7D3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3F6F-B00A-428B-A281-E6E23630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3F51-DBFB-496F-81A8-F296B730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CADA-7D57-41BC-A97E-93FCFB00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FBA1-F6C3-4BE2-B551-AB64A81C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2C6B1-5A58-4030-B1D1-522A886F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8D372-225F-4093-865E-2F54A2FF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88CC2-4505-4B3F-A274-55BDA317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4559B-1462-47F1-9A9F-D0F48A99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0E53B-748C-4BB8-8783-42B9E74D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891A6-F4FB-4A67-A192-595FC1E0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1E523-1D05-49FF-8CCD-B823C145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F9EA-2EF2-41E1-A426-EC79B5677435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8231-C332-4A1D-972C-135EE6741331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GRA</a:t>
            </a:r>
            <a:r>
              <a:rPr b="0" lang="sr-Latn-CS" sz="4500" spc="-1" strike="noStrike">
                <a:solidFill>
                  <a:srgbClr val="ffffff"/>
                </a:solidFill>
                <a:latin typeface="Arial"/>
              </a:rPr>
              <a:t>ĐEVINSKA REGULATIVA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POJAM, ZNAČAJ I SADRŽAJ GRAĐEVINSKE REGULAT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POJAM GRAĐEVINSKE REGULATIV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kup pravila kojima se uređuje izgradnja građevinskih projekata, odnosn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re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j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kvir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utar kojih se moraju pon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i u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nici u izgradnji investicionog objekt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Zakonska regulativ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Ostala, tzv.”autonomna regulativa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ZAKONSKA REGULATIV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konsku regulativu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zakoni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uredb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pravilnici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uputstv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rješenj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odluke i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aredbe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konske propise donosi skup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na dr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e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dzakonska i druga akta vlad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ojedina ministarstva, ovla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š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 organizacije i/ili organi. Zakoni se donose na osnovu Ustava, a podzakonska akta na osnovu zak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OSTALA REGULATIV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Tzv. “autonomna” regulativa koju donose privredni i neprivredni subjekti i primjenjuje se voljom učesnika u izgradnj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razni modeli ugovora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modeli konkursne dokumentacije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standardizovani tehnički uslovi i pozicije radova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metode planiranja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normativi utroška rada i materijala i sl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ZNAČAJ GRAĐEVINSKE REGULATIV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roističe iz značaja i kompleksnosti građevinarstva kao djelatnosti od izuzetnog javnog intere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Javni interes se ogleda kroz potrebu obezbjeđenja zašt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i očuvanja prostor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vod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zdravlja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na radu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spomenika kultur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prirod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šuma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poljoprivrednog zemljišta i s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280" y="476280"/>
            <a:ext cx="741708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ffffff"/>
                </a:solidFill>
                <a:latin typeface="Arial"/>
              </a:rPr>
              <a:t>SADRŽAJ GRAĐEVINSKE REGULATIV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293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Zakoni i uredbe o</a:t>
            </a:r>
            <a:r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laniranju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stor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 i izgradnji objekat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životnoj sredini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nim nabavkama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ligacionim odnosima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evim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spomenika kulture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ksproprijaciji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dam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od elementarnih nepogod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od požar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cionalnim parkovim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prirode i dr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51280" y="1954080"/>
            <a:ext cx="511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ravilnic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raznim tehničkim uslovima za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jektovanje, izgradnju i održavanje objekat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ršenja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revizije idejnih i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glavnih projekata;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ođenja građevinskog dnevnika, građevinske knjige i knjige inspekcij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ršenja nadzora u toku projektovanja i građenja objekata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osmatranja tla i objekata u toku građenja i upotreb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ršenja tehničkog pregleda objekta i izdavanja upotrebne dozvol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tupku i načinu izdavanja licenci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gramu i načinu polaganja stručnog ispita i sticanju ovlaš}enja za projektovanje i rukovođenje građenjem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činu izrade i sadržini tehničke dokumentacij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zradi i održavanju katastra vodova i podzemnih objekat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jerama zaštite od elementarnih nepogod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tehničke dokumentacije za izdavanje vodoprivredne saglasnosti i vodoprivredne dozvol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hničkom pregledu javnog put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ebnim mjerama zaštite od požara koje mora da sadrži tehnička dokumentacija za određene investicione objekt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asnim materijama koje se ne smiju unositi u vode i dr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30200" y="5864400"/>
            <a:ext cx="8209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UTONOM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Posebne u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zanse o građenju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št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uslov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međunarodnog udruženja konsultanata FIDIC,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-modeli ugovor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24000" y="1544760"/>
            <a:ext cx="820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AKONSK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22:52:50Z</dcterms:created>
  <dc:creator>rade</dc:creator>
  <dc:description/>
  <dc:language>en-US</dc:language>
  <cp:lastModifiedBy>zana</cp:lastModifiedBy>
  <dcterms:modified xsi:type="dcterms:W3CDTF">2018-01-29T20:14:10Z</dcterms:modified>
  <cp:revision>20</cp:revision>
  <dc:subject/>
  <dc:title>GRAĐEVINSKA REGULATIVA</dc:title>
</cp:coreProperties>
</file>